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6C6-6009-4512-B168-BAEE9862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72E-F4DF-4751-8870-2204F0D5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CCD-56C5-4A61-AC75-C1BF7F79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C7F-176A-4417-8278-D1286383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7B89-D95B-4308-8A72-95FCD463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D73C-2D86-4910-A2C7-3ED40BAC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FA31-8AC7-4EFB-9FDA-BE68E36D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1D21-909B-4B13-A540-90384277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3079-015C-45F2-AD14-05AD7A14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7647-AEFF-44E5-A255-89A81377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B2E8-5630-4F07-8E42-F53C36CB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D3A-0408-45D4-9349-CEEF55DE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7CFA-BC7C-4A43-B711-ACC7273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CADA-BB9E-488A-870E-F74E4547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2DDA-95C7-42E4-B3F2-94D01D1B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1955-63BD-4BF1-86F4-32AE371A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2C27-72B2-4F15-89E5-EA1F62B5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44A-C5FF-4420-BD1C-2E714B6E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3780-69B1-4A35-BDBD-B0DC61A1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83D-5521-4FB8-857D-1A73251D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DA4-E75E-47B1-BDE6-E704ED36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8FF-069F-4FC3-8AE6-ACEB88C3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CB3-8A21-49C5-89D0-9464977A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66C-7ED0-4679-B982-C97663A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F517-1F0B-4BDD-AFE3-900B8CF97BA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EDF-9B30-47F6-ACDF-D796C4233E6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larm.wav" TargetMode="External"/><Relationship Id="rId2" Type="http://schemas.microsoft.com/office/2007/relationships/media" Target="file:///tmp/home/.config/libreoffice/4/user/gallery/alarm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eyou.wav" TargetMode="External"/><Relationship Id="rId2" Type="http://schemas.microsoft.com/office/2007/relationships/media" Target="file:///tmp/home/.config/libreoffice/4/user/gallery/heyou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thatsall.wav" TargetMode="External"/><Relationship Id="rId3" Type="http://schemas.microsoft.com/office/2007/relationships/media" Target="file:///tmp/home/.config/libreoffice/4/user/gallery/thatsall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vlsclvr.wav" TargetMode="External"/><Relationship Id="rId2" Type="http://schemas.microsoft.com/office/2007/relationships/media" Target="file:///tmp/home/.config/libreoffice/4/user/gallery/dvlsclvr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sane.wav" TargetMode="External"/><Relationship Id="rId2" Type="http://schemas.microsoft.com/office/2007/relationships/media" Target="file:///tmp/home/.config/libreoffice/4/user/gallery/insane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nglish.wav" TargetMode="External"/><Relationship Id="rId2" Type="http://schemas.microsoft.com/office/2007/relationships/media" Target="file:///tmp/home/.config/libreoffice/4/user/gallery/english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anish Verb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81480" y="251424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lcome to Spanish 1  I hope you enjoy your time in cla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ntroductory presentation will review two key concepts: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njugat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greemen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2360520"/>
            <a:ext cx="3809880" cy="2973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954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1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jug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we make changes to a verb, we call it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njugating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glish verbs have different forms: go, goes, went, gone, go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en we have to decide between “go” and “goes,” we are conjugating the verb “go.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9718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219320" y="2220840"/>
            <a:ext cx="38098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5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re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 course, it’s important to get the right form!  You can’t say “She go” any more than you can say “I goes.”  When you put the correct forms together, it’s calle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gree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97180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57360" y="2281320"/>
            <a:ext cx="3133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31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1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at’s all, folks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002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Now you are ready to work on the first Spanish verb S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3280" y="1600200"/>
            <a:ext cx="2901960" cy="4495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895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28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dentifying Verb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t’s begin with a few English verb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2360520"/>
            <a:ext cx="3809880" cy="297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195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44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 day I wake up at 6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ver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escribes the state or ac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ry complete sentence needs a verb.  Imagine trying to make sense out of “Every day I up at 6:00.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ery complete sentence also needs a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– th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who?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part of the sentences.  Imagine trying to make sense out of “Every day wake up at 6:00.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19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84440" y="2289240"/>
            <a:ext cx="3116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45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 morning I wake up at 6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can identify the verb by making some changes to the sentence.  Change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see what happens.  In this case, change “I” to “she” and see what happe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954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84440" y="2359080"/>
            <a:ext cx="28112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8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 morning she wake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up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wor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hanged to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cause we are talking about a different person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19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760400" y="2538360"/>
            <a:ext cx="25830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1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 morning I wake up at 6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trick doesn’t always tell us which word is the verb, because English verbs don’t change very oft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illustrate, change the subject of the original sentence to “we,” “you,” and “they.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19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55840" y="2398680"/>
            <a:ext cx="3268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35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 wake up / You wake up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verb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oesn’t chang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 there is another way to check for the verb: change the ti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t’s do that by changing “Every morning” to “yesterday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81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31800" y="2289240"/>
            <a:ext cx="31165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5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esterday I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wok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up at 6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word that changed wa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so that is the verb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 can also change the time to “tomorrow” 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ak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ill change aga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971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684440" y="2170080"/>
            <a:ext cx="3268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5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morrow I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will wak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up at 7:00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review, there are two tricks you can use to tell which is the verb: change the subject and change the time.  There is more to verbs than what you’ve seen here, but this will get your started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71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301760" y="2133720"/>
            <a:ext cx="3879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0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3:42:25Z</dcterms:created>
  <dc:creator>test</dc:creator>
  <dc:description/>
  <dc:language>en-US</dc:language>
  <cp:lastModifiedBy>Daly Dominguez</cp:lastModifiedBy>
  <dcterms:modified xsi:type="dcterms:W3CDTF">2009-09-19T16:04:05Z</dcterms:modified>
  <cp:revision>14</cp:revision>
  <dc:subject/>
  <dc:title>Spanish Verbs</dc:title>
</cp:coreProperties>
</file>